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59C0-8D04-490E-AEAF-67D93BDBF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E2F1-D8CF-4CFC-9DEA-2357C6938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FBAF-67DA-481B-9395-81766CCE5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B1D8-9F46-4EE8-BBC2-93EA5A893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BFA3-99F6-46B8-8866-7BCB07AE6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DD61-727A-463B-BAC3-FB5079295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67DA-4FC1-438F-B498-B73448952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7F76-410A-4F42-A840-8A63787D7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FB32-E553-478D-8BB8-E9C7463CD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CFEE-305F-41EC-B8BE-040542837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42FC-69C0-49FD-839F-FF3C74DB0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4047-3F11-44B5-9891-49E6A9FC2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FE8EC5-96ED-4479-A04C-492F5B919B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500040" y="571680"/>
            <a:ext cx="75722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B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071720" y="2503440"/>
            <a:ext cx="771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Arial Unicode MS"/>
              </a:rPr>
              <a:t>Фамилия, имя, отчество автора: Артемова Екатерина Владими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Arial Unicode MS"/>
              </a:rPr>
              <a:t>Место работы : МБОУ СОШ №2 г.Озёры Москов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 – an iceberg very f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19280" y="200016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685800" y="285840"/>
            <a:ext cx="77724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 – a jinni in the j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35336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 – a k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68360" y="1901880"/>
            <a:ext cx="5256360" cy="33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L – a lo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24000" y="1816200"/>
            <a:ext cx="460872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 – a monster on the m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688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 – a 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0100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 – an 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343240" y="2023920"/>
            <a:ext cx="4457520" cy="28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 – a postman with a 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29400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 – Elizabeth the Qu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052800" y="1628640"/>
            <a:ext cx="32716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 – a ruby in the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an ap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3691080" y="2719440"/>
            <a:ext cx="1760400" cy="2284200"/>
            <a:chOff x="3691080" y="2719440"/>
            <a:chExt cx="1760400" cy="2284200"/>
          </a:xfrm>
        </p:grpSpPr>
        <p:pic>
          <p:nvPicPr>
            <p:cNvPr id="46" name="Picture 3" descr=""/>
            <p:cNvPicPr/>
            <p:nvPr/>
          </p:nvPicPr>
          <p:blipFill>
            <a:blip r:embed="rId1"/>
            <a:stretch/>
          </p:blipFill>
          <p:spPr>
            <a:xfrm>
              <a:off x="3691080" y="2719440"/>
              <a:ext cx="176040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3691080" y="2719440"/>
              <a:ext cx="17604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 – a seagull in the s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24000" y="2230560"/>
            <a:ext cx="5688000" cy="31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 – a tiger in a t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40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a U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03240" y="1714680"/>
            <a:ext cx="569772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0200" y="1857240"/>
            <a:ext cx="435780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64296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 – a v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3000240" y="1643040"/>
            <a:ext cx="3143520" cy="3751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 – a woman in the w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581120" y="1900080"/>
            <a:ext cx="5419800" cy="4141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685800" y="428760"/>
            <a:ext cx="77724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- an x-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857680" y="1785960"/>
            <a:ext cx="3714480" cy="4417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685800" y="28584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Y - a y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785960" y="1768320"/>
            <a:ext cx="6048360" cy="453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 – a zebra in the zo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 и К. Кауфман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English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5» песня об алфав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 – a b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68360" y="2251080"/>
            <a:ext cx="4391280" cy="35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 – a clever city 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95640" y="1523880"/>
            <a:ext cx="428148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 – a do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933560" y="1755720"/>
            <a:ext cx="619920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E - the Ea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68360" y="1930320"/>
            <a:ext cx="403236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- a fat and funny fi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26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 – a gloomy gentle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143160" y="1500120"/>
            <a:ext cx="31435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 – a happy hippy 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4680000" cy="496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</dc:creator>
  <dc:description/>
  <dc:language>en-US</dc:language>
  <cp:lastModifiedBy>User</cp:lastModifiedBy>
  <dcterms:modified xsi:type="dcterms:W3CDTF">2013-04-06T08:36:28Z</dcterms:modified>
  <cp:revision>1</cp:revision>
  <dc:subject/>
  <dc:title>The abc</dc:title>
</cp:coreProperties>
</file>