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9DC5-2398-4F49-98E2-386696242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DA13-7BF1-48F5-9367-CAE6517B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08C4-33E4-4677-8238-DE008F70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0481-5BB3-4B7F-9439-6BC308D5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7161-F67E-4B8B-A998-3360202A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4CDA-92D2-44D6-8B4B-EA245534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49D0-0D0B-4C5D-B1E2-E0E18ABA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5816-7CF3-42A0-940C-65EF0BAD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8514-554D-4EE7-9AEF-FA335CBA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3A20-5D4B-4835-8BB6-8CB8AE9F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6E1B-8533-444D-8C09-E4A1D029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BC98-9561-4A00-8AF2-D4655663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12BA-63AA-4FA7-A8E3-A09C34AF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6655-3CD0-4788-99DD-7EAD4831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631D-79BD-4398-89B0-E541E504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8000-FF87-4561-92A8-FB158909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E6BA-05D2-48CC-9944-03BD49C2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F69E4-5E4B-45B5-8362-2588C5B3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516BB-4056-48C3-8136-BC823DAC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3298C-D671-4B28-90DF-117518F1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BF812-63C9-41F0-9E77-4E7B39AA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7A518-C1A7-463A-8423-8F3FFC3C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F491-AC8E-464F-9DF5-FB58A391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38E47-94CA-424D-A6DD-69D42604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D1912-AFB4-4CBE-9429-252C12F0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3044D-C44C-43CE-86B1-7968990C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E981D-7B60-461B-945C-B5A5CC17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FDA9D-9444-44BD-9DC6-BF514FDD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3249F-1654-4E1F-9CAD-89F54D28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F7493-DA81-4DB4-89C3-4F5049D5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5D8F-CB95-438A-B1B0-E1717E08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8C6A-4855-4903-9421-FDC08274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9807-C4AD-4721-9474-A43B5DBC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4E1B-E7F4-4B00-9B67-D694BC03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F5A0-1AD9-4CA2-8950-7D838F7C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A1CD-34F3-424E-A2E0-7FF10C19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7729-0AAE-4D27-B911-7D5468FDF5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AF71-8461-45CD-958C-3E9E869D31F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BD12-1516-4542-A448-636F4345270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C:\Users\home\Desktop\28f0f0c8fe07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7030a0"/>
                </a:solidFill>
                <a:latin typeface="Calibri"/>
              </a:rPr>
              <a:t>Kostya Todorenk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1128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Sport in my famil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19280" y="90756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y family likes sport very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2842200" y="3244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C:\Новая папка\деревья 024.jpg"/>
          <p:cNvPicPr/>
          <p:nvPr/>
        </p:nvPicPr>
        <p:blipFill>
          <a:blip r:embed="rId1"/>
          <a:stretch/>
        </p:blipFill>
        <p:spPr>
          <a:xfrm>
            <a:off x="2124000" y="1773360"/>
            <a:ext cx="586440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y mother can play hock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C:\Новая папка\IMG_6315.JPG"/>
          <p:cNvPicPr/>
          <p:nvPr/>
        </p:nvPicPr>
        <p:blipFill>
          <a:blip r:embed="rId1"/>
          <a:stretch/>
        </p:blipFill>
        <p:spPr>
          <a:xfrm>
            <a:off x="2124000" y="765000"/>
            <a:ext cx="59119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43280" y="6919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t’s great to toboggan in win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C:\Новая папка\IMG_6346.JPG"/>
          <p:cNvPicPr/>
          <p:nvPr/>
        </p:nvPicPr>
        <p:blipFill>
          <a:blip r:embed="rId1"/>
          <a:stretch/>
        </p:blipFill>
        <p:spPr>
          <a:xfrm>
            <a:off x="1476360" y="206064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5T01:26:43Z</dcterms:created>
  <dc:creator>тодоренко</dc:creator>
  <dc:description/>
  <dc:language>en-US</dc:language>
  <cp:lastModifiedBy>loa</cp:lastModifiedBy>
  <dcterms:modified xsi:type="dcterms:W3CDTF">2015-03-24T08:22:16Z</dcterms:modified>
  <cp:revision>112</cp:revision>
  <dc:subject> </dc:subject>
  <dc:title> спорт в семье</dc:title>
</cp:coreProperties>
</file>