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34.jpeg" ContentType="image/jpeg"/>
  <Override PartName="/ppt/media/image5.png" ContentType="image/png"/>
  <Override PartName="/ppt/media/image19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1BE-4315-4D62-BE8F-8E44122D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D7A-14BE-4374-9BE5-28FEACF6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5A2-50F2-41E1-BB6D-8C9C9B1D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9CF-D95D-4C84-B501-E15A9764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2909-0B41-43E5-AAB2-EC974A25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C6E2-81FC-4A3E-996B-C2C700F7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DC0B-47E0-410C-B7B0-94801AC4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B6ED-53F1-44A1-9B31-19C88876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7D60-B0F9-4225-A4EC-DCD15B33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4B2E-7A70-4E69-9BFA-7FAB030E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9B4A-5A30-4C7E-BE23-37C33F6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0D6-960C-4101-8FC5-AE6A027A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9232-6E97-452A-96C1-EAB5F83E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144-6F7A-492B-B6A1-1CC1BAB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3CDD-2A90-40D9-B466-F278EDBF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0BEC-7673-4A2C-B8DA-10ADA8A5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A610-F2B4-4B20-B59B-EA8EF067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704B-8D05-4DD8-87DE-E3902AAC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E0A7-CCC5-4E3E-914F-A1E0FDF5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39F2-2675-4E68-905C-4FC2AEBE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CFC5-C4B0-4E61-9EDB-E7AE92B4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5BF79-5504-4BB1-8566-6A456A4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44B-5AEB-46FA-BB2B-BE8CE7DC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457C-FB1F-4F73-834C-CBEECBA5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65A7-1F0C-4F6C-814F-429C2F25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A1B2-E99B-4BF4-8FB5-CA3A40BB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AB90-416F-4868-A28A-9920D0DB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0FDD-5338-471F-8728-BEE08CF4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438D-2A54-45D7-9655-B1550F60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314F-7A6D-4C7F-A6A8-18602D17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709B-36F8-4949-A3A2-D77A6EE4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775AD-0E2E-4B0F-9A6D-24D08AD6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F584-1A12-4EC1-9A19-9AC6FF03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706-729E-454D-AAA5-428D36EA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5C061-AC63-4B4A-9A8D-29ED549E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CDA1-9163-42EE-9866-91DFA58F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6EBB-CC20-4AA2-A1BF-AFF6D563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74DF-73C4-47F8-BEFF-69942543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D59F-2D10-4809-BB6E-4DCDB352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3DED8-B37E-4A5D-BECD-8CD4F8D6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5EB04-0909-458B-8A5C-3826AA6D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DE4C-07CA-4403-ABD2-F80991FA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1248-CF33-4BFC-A022-6D94669A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76F-623B-427B-BC15-C769132F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739-F4F2-48E0-99E3-F15DAC63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90E-CC33-46C2-9120-77FAB5CF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368-BE07-4566-91CB-83057043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2B8C-5019-469F-83DC-EAADDC61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0725-5B1A-4C37-A50E-9A24A9D47A4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423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423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152920" y="64231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2200-8A41-4AC8-B45F-95D61F64AADF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99F6-71A8-48D3-9F48-CF7A2E54D6C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1106"/>
            </a:gs>
            <a:gs pos="100000">
              <a:srgbClr val="8d726e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лилиния 6"/>
          <p:cNvSpPr/>
          <p:nvPr/>
        </p:nvSpPr>
        <p:spPr>
          <a:xfrm>
            <a:off x="0" y="4751280"/>
            <a:ext cx="9144000" cy="2114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4640"/>
              <a:gd name="textAreaBottom" fmla="*/ 2115000 h 211464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олилиния 7"/>
          <p:cNvSpPr/>
          <p:nvPr/>
        </p:nvSpPr>
        <p:spPr>
          <a:xfrm>
            <a:off x="6107040" y="0"/>
            <a:ext cx="303696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891a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eb8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423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aa3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4231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31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aa3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8DDE-CB2F-4225-BCDC-92E012F4BC20}" type="slidenum">
              <a:rPr b="0" lang="ru-RU" sz="1000" spc="-1" strike="noStrike">
                <a:solidFill>
                  <a:srgbClr val="aaa3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g.goodspot.ru/authors/index.php?author=246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1938240" y="115920"/>
            <a:ext cx="5151600" cy="38656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7"/>
          <p:cNvSpPr/>
          <p:nvPr/>
        </p:nvSpPr>
        <p:spPr>
          <a:xfrm>
            <a:off x="755640" y="501336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9d7e2"/>
                </a:solidFill>
                <a:latin typeface="Arial"/>
              </a:rPr>
              <a:t>Made by the student of 10-th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9d7e2"/>
                </a:solidFill>
                <a:latin typeface="Arial"/>
              </a:rPr>
              <a:t>Farafonova Aly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9d7e2"/>
                </a:solidFill>
                <a:latin typeface="Arial"/>
              </a:rPr>
              <a:t>Teacher: Khlynova E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1116000" y="944640"/>
            <a:ext cx="835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WordArt 16"/>
          <p:cNvSpPr txBox="1"/>
          <p:nvPr/>
        </p:nvSpPr>
        <p:spPr>
          <a:xfrm>
            <a:off x="1258920" y="115920"/>
            <a:ext cx="6553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USA &amp; The U.K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4" name="Picture 24" descr="flag_england_1280058076"/>
          <p:cNvPicPr/>
          <p:nvPr/>
        </p:nvPicPr>
        <p:blipFill>
          <a:blip r:embed="rId2"/>
          <a:stretch/>
        </p:blipFill>
        <p:spPr>
          <a:xfrm>
            <a:off x="4716360" y="4149720"/>
            <a:ext cx="3672000" cy="2146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6" descr="image002"/>
          <p:cNvPicPr/>
          <p:nvPr/>
        </p:nvPicPr>
        <p:blipFill>
          <a:blip r:embed="rId3"/>
          <a:stretch/>
        </p:blipFill>
        <p:spPr>
          <a:xfrm>
            <a:off x="1258920" y="3068640"/>
            <a:ext cx="36003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495240" y="6021360"/>
            <a:ext cx="29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- Well-mann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6" descr="1362740229_092"/>
          <p:cNvPicPr/>
          <p:nvPr/>
        </p:nvPicPr>
        <p:blipFill>
          <a:blip r:embed="rId1"/>
          <a:stretch/>
        </p:blipFill>
        <p:spPr>
          <a:xfrm>
            <a:off x="324000" y="1268280"/>
            <a:ext cx="6119640" cy="4065840"/>
          </a:xfrm>
          <a:prstGeom prst="rect">
            <a:avLst/>
          </a:prstGeom>
          <a:ln w="0">
            <a:noFill/>
          </a:ln>
        </p:spPr>
      </p:pic>
      <p:sp>
        <p:nvSpPr>
          <p:cNvPr id="281" name="WordArt 7"/>
          <p:cNvSpPr txBox="1"/>
          <p:nvPr/>
        </p:nvSpPr>
        <p:spPr>
          <a:xfrm>
            <a:off x="755640" y="404640"/>
            <a:ext cx="74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ffff">
                    <a:alpha val="6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character of British people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ffff">
                  <a:alpha val="6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3566880" y="551664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- R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es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er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6588000" y="2708280"/>
            <a:ext cx="24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itish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erved and well-mann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6588000" y="393372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main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their l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179280" y="119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No children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no dogs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6" descr="2c162fb9a6a0ef569c3e0bfac3223a41"/>
          <p:cNvPicPr/>
          <p:nvPr/>
        </p:nvPicPr>
        <p:blipFill>
          <a:blip r:embed="rId1"/>
          <a:stretch/>
        </p:blipFill>
        <p:spPr>
          <a:xfrm>
            <a:off x="250920" y="1700280"/>
            <a:ext cx="4032000" cy="2825640"/>
          </a:xfrm>
          <a:prstGeom prst="rect">
            <a:avLst/>
          </a:prstGeom>
          <a:ln w="0">
            <a:noFill/>
          </a:ln>
        </p:spPr>
      </p:pic>
      <p:sp>
        <p:nvSpPr>
          <p:cNvPr id="287" name="WordArt 7"/>
          <p:cNvSpPr txBox="1"/>
          <p:nvPr/>
        </p:nvSpPr>
        <p:spPr>
          <a:xfrm>
            <a:off x="755640" y="404640"/>
            <a:ext cx="74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ffff">
                    <a:alpha val="6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character of British people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ffff">
                  <a:alpha val="6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7454880" y="1844640"/>
            <a:ext cx="13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10" descr="um1"/>
          <p:cNvPicPr/>
          <p:nvPr/>
        </p:nvPicPr>
        <p:blipFill>
          <a:blip r:embed="rId2"/>
          <a:stretch/>
        </p:blipFill>
        <p:spPr>
          <a:xfrm>
            <a:off x="4716360" y="2492280"/>
            <a:ext cx="4222800" cy="31672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Тонкий английский юмор"/>
          <p:cNvPicPr/>
          <p:nvPr/>
        </p:nvPicPr>
        <p:blipFill>
          <a:blip r:embed="rId3"/>
          <a:stretch/>
        </p:blipFill>
        <p:spPr>
          <a:xfrm>
            <a:off x="5796000" y="3429000"/>
            <a:ext cx="20779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6447600" y="170028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Hob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7" descr="11"/>
          <p:cNvPicPr/>
          <p:nvPr/>
        </p:nvPicPr>
        <p:blipFill>
          <a:blip r:embed="rId1"/>
          <a:stretch/>
        </p:blipFill>
        <p:spPr>
          <a:xfrm>
            <a:off x="179280" y="1628640"/>
            <a:ext cx="4753080" cy="3992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1282036350_wiganathleticvblackpoolpremierleaguei3at2yslnc_l"/>
          <p:cNvPicPr/>
          <p:nvPr/>
        </p:nvPicPr>
        <p:blipFill>
          <a:blip r:embed="rId2"/>
          <a:stretch/>
        </p:blipFill>
        <p:spPr>
          <a:xfrm>
            <a:off x="5148360" y="2205000"/>
            <a:ext cx="2879640" cy="208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Reading%2Bv%2BManchester%2BUnited%2BPremier%2BLeague%2BRXmW546qWJyl"/>
          <p:cNvPicPr/>
          <p:nvPr/>
        </p:nvPicPr>
        <p:blipFill>
          <a:blip r:embed="rId3"/>
          <a:stretch/>
        </p:blipFill>
        <p:spPr>
          <a:xfrm>
            <a:off x="6227640" y="4437000"/>
            <a:ext cx="2617920" cy="2000160"/>
          </a:xfrm>
          <a:prstGeom prst="rect">
            <a:avLst/>
          </a:prstGeom>
          <a:ln w="0">
            <a:noFill/>
          </a:ln>
        </p:spPr>
      </p:pic>
      <p:sp>
        <p:nvSpPr>
          <p:cNvPr id="295" name="WordArt 14"/>
          <p:cNvSpPr txBox="1"/>
          <p:nvPr/>
        </p:nvSpPr>
        <p:spPr>
          <a:xfrm>
            <a:off x="755640" y="404640"/>
            <a:ext cx="74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ffff">
                    <a:alpha val="6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character of British people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ffff">
                  <a:alpha val="6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635280" y="5661000"/>
            <a:ext cx="4442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Tea is the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ost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opular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rink in Britain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8" descr="image-05-02-14-21-26"/>
          <p:cNvPicPr/>
          <p:nvPr/>
        </p:nvPicPr>
        <p:blipFill>
          <a:blip r:embed="rId1"/>
          <a:stretch/>
        </p:blipFill>
        <p:spPr>
          <a:xfrm>
            <a:off x="1042920" y="1268280"/>
            <a:ext cx="6624720" cy="4052880"/>
          </a:xfrm>
          <a:prstGeom prst="rect">
            <a:avLst/>
          </a:prstGeom>
          <a:ln w="0">
            <a:noFill/>
          </a:ln>
        </p:spPr>
      </p:pic>
      <p:sp>
        <p:nvSpPr>
          <p:cNvPr id="298" name="WordArt 9"/>
          <p:cNvSpPr txBox="1"/>
          <p:nvPr/>
        </p:nvSpPr>
        <p:spPr>
          <a:xfrm>
            <a:off x="755640" y="404640"/>
            <a:ext cx="74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ffff">
                    <a:alpha val="6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character of British people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ffff">
                  <a:alpha val="6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24000" y="2637000"/>
            <a:ext cx="2376360" cy="36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The weather changes very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't knock the weather; nine-tenths of the people couldn't start a conversation if it didn't change once in a whil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ubbard, 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6" descr="9149e5d8cd5b00b51ee859c7240"/>
          <p:cNvPicPr/>
          <p:nvPr/>
        </p:nvPicPr>
        <p:blipFill>
          <a:blip r:embed="rId2"/>
          <a:stretch/>
        </p:blipFill>
        <p:spPr>
          <a:xfrm>
            <a:off x="3132000" y="2205000"/>
            <a:ext cx="5616720" cy="42134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7"/>
          <p:cNvSpPr/>
          <p:nvPr/>
        </p:nvSpPr>
        <p:spPr>
          <a:xfrm>
            <a:off x="250920" y="126792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"What's the weather like today? 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WordArt 9"/>
          <p:cNvSpPr txBox="1"/>
          <p:nvPr/>
        </p:nvSpPr>
        <p:spPr>
          <a:xfrm>
            <a:off x="755640" y="404640"/>
            <a:ext cx="74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ffff">
                    <a:alpha val="6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character of British people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ffff">
                  <a:alpha val="6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7"/>
          <p:cNvSpPr txBox="1"/>
          <p:nvPr/>
        </p:nvSpPr>
        <p:spPr>
          <a:xfrm>
            <a:off x="1042920" y="333360"/>
            <a:ext cx="70963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75000"/>
                  </a:srgbClr>
                </a:solidFill>
                <a:latin typeface="Impact"/>
              </a:rPr>
              <a:t>The Geographical position of the USA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75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539640" y="5589720"/>
            <a:ext cx="790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It is washed by the Atlantic Ocean in the 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and the Pacific Ocean in the W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9" descr="Атлантический океан"/>
          <p:cNvPicPr/>
          <p:nvPr/>
        </p:nvPicPr>
        <p:blipFill>
          <a:blip r:embed="rId1"/>
          <a:stretch/>
        </p:blipFill>
        <p:spPr>
          <a:xfrm>
            <a:off x="250920" y="256536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тихий океан"/>
          <p:cNvPicPr/>
          <p:nvPr/>
        </p:nvPicPr>
        <p:blipFill>
          <a:blip r:embed="rId2"/>
          <a:stretch/>
        </p:blipFill>
        <p:spPr>
          <a:xfrm>
            <a:off x="4643280" y="256536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1"/>
          <p:cNvSpPr/>
          <p:nvPr/>
        </p:nvSpPr>
        <p:spPr>
          <a:xfrm>
            <a:off x="1042920" y="1700280"/>
            <a:ext cx="72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SA is situated in the Central part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th American conti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3"/>
          <p:cNvSpPr txBox="1"/>
          <p:nvPr/>
        </p:nvSpPr>
        <p:spPr>
          <a:xfrm>
            <a:off x="1547640" y="549360"/>
            <a:ext cx="5856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merican style of li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419640" y="24199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Sport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9" descr="39"/>
          <p:cNvPicPr/>
          <p:nvPr/>
        </p:nvPicPr>
        <p:blipFill>
          <a:blip r:embed="rId1"/>
          <a:stretch/>
        </p:blipFill>
        <p:spPr>
          <a:xfrm>
            <a:off x="1116000" y="3933720"/>
            <a:ext cx="4105440" cy="2738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33"/>
          <p:cNvPicPr/>
          <p:nvPr/>
        </p:nvPicPr>
        <p:blipFill>
          <a:blip r:embed="rId2"/>
          <a:stretch/>
        </p:blipFill>
        <p:spPr>
          <a:xfrm>
            <a:off x="5435640" y="1700280"/>
            <a:ext cx="3384360" cy="23605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1"/>
          <p:cNvSpPr/>
          <p:nvPr/>
        </p:nvSpPr>
        <p:spPr>
          <a:xfrm>
            <a:off x="5364000" y="4077000"/>
            <a:ext cx="30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American sports are quite distinct from those played elsewhere in the world</a:t>
            </a:r>
            <a:r>
              <a:rPr b="0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he "big three" are baseball, football and basketball, which are all popular on both the college and professional levels.</a:t>
            </a: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2" descr="1265524098_bieisbol"/>
          <p:cNvPicPr/>
          <p:nvPr/>
        </p:nvPicPr>
        <p:blipFill>
          <a:blip r:embed="rId3"/>
          <a:stretch/>
        </p:blipFill>
        <p:spPr>
          <a:xfrm>
            <a:off x="179280" y="1700280"/>
            <a:ext cx="27370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899640" y="155628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2411280" y="565992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The greatest variations in dress are related to climate</a:t>
            </a:r>
            <a:r>
              <a:rPr b="1" lang="ru-RU" sz="2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WordArt 4"/>
          <p:cNvSpPr txBox="1"/>
          <p:nvPr/>
        </p:nvSpPr>
        <p:spPr>
          <a:xfrm>
            <a:off x="1547640" y="549360"/>
            <a:ext cx="5856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merican style of li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7" name="Picture 5" descr="large_1360356732"/>
          <p:cNvPicPr/>
          <p:nvPr/>
        </p:nvPicPr>
        <p:blipFill>
          <a:blip r:embed="rId1"/>
          <a:stretch/>
        </p:blipFill>
        <p:spPr>
          <a:xfrm>
            <a:off x="1908000" y="2349360"/>
            <a:ext cx="666756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2"/>
          <p:cNvSpPr txBox="1"/>
          <p:nvPr/>
        </p:nvSpPr>
        <p:spPr>
          <a:xfrm>
            <a:off x="1547640" y="549360"/>
            <a:ext cx="58564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American style of li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6736680" y="162792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Housing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55098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Immediately after World War II, Americans began living in increasing numbers in the suburbs, because American  housing is quite cheap.These new single-family houses were usually one or two stories tall</a:t>
            </a:r>
            <a:r>
              <a:rPr b="0" lang="ru-RU" sz="1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5" descr="2335&amp;mb=imgdb_preview_1964"/>
          <p:cNvPicPr/>
          <p:nvPr/>
        </p:nvPicPr>
        <p:blipFill>
          <a:blip r:embed="rId1"/>
          <a:stretch/>
        </p:blipFill>
        <p:spPr>
          <a:xfrm>
            <a:off x="1042920" y="1700280"/>
            <a:ext cx="3529080" cy="2641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rancho"/>
          <p:cNvPicPr/>
          <p:nvPr/>
        </p:nvPicPr>
        <p:blipFill>
          <a:blip r:embed="rId2"/>
          <a:stretch/>
        </p:blipFill>
        <p:spPr>
          <a:xfrm>
            <a:off x="4716360" y="292428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7"/>
          <p:cNvSpPr txBox="1"/>
          <p:nvPr/>
        </p:nvSpPr>
        <p:spPr>
          <a:xfrm>
            <a:off x="755640" y="404640"/>
            <a:ext cx="74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character of American people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6159240" y="3141000"/>
            <a:ext cx="23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- Punctualit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3134160" y="162864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- American s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11" descr="национальный характер американцев"/>
          <p:cNvPicPr/>
          <p:nvPr/>
        </p:nvPicPr>
        <p:blipFill>
          <a:blip r:embed="rId1"/>
          <a:stretch/>
        </p:blipFill>
        <p:spPr>
          <a:xfrm>
            <a:off x="468360" y="1628640"/>
            <a:ext cx="2592360" cy="1881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5081-2"/>
          <p:cNvPicPr/>
          <p:nvPr/>
        </p:nvPicPr>
        <p:blipFill>
          <a:blip r:embed="rId2"/>
          <a:stretch/>
        </p:blipFill>
        <p:spPr>
          <a:xfrm>
            <a:off x="3348000" y="2565360"/>
            <a:ext cx="2508120" cy="2664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общение с американцами"/>
          <p:cNvPicPr/>
          <p:nvPr/>
        </p:nvPicPr>
        <p:blipFill>
          <a:blip r:embed="rId3"/>
          <a:stretch/>
        </p:blipFill>
        <p:spPr>
          <a:xfrm>
            <a:off x="6227640" y="4581360"/>
            <a:ext cx="2664000" cy="20037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4"/>
          <p:cNvSpPr/>
          <p:nvPr/>
        </p:nvSpPr>
        <p:spPr>
          <a:xfrm>
            <a:off x="4358160" y="566028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- Unity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47760" y="1432080"/>
            <a:ext cx="83390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обрать и изучить литературу по теме рабо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ить особенности географического положения Великобритании и СШ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мотреть образ жизни, традиции и черты характера британцев, американц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сти сравнительный анализ национального характера англичан и американц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ценить влияние географического положения на формирование национального характер англичан и американцев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Заголовок 1"/>
          <p:cNvSpPr/>
          <p:nvPr/>
        </p:nvSpPr>
        <p:spPr>
          <a:xfrm>
            <a:off x="444600" y="189000"/>
            <a:ext cx="82296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2300" spc="-1" strike="noStrike">
                <a:solidFill>
                  <a:srgbClr val="ccecff"/>
                </a:solidFill>
                <a:latin typeface="Arial"/>
              </a:rPr>
              <a:t> изучение влияния географического положения Великобритании и США на характер людей и их образ жизни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2"/>
          <p:cNvSpPr txBox="1"/>
          <p:nvPr/>
        </p:nvSpPr>
        <p:spPr>
          <a:xfrm>
            <a:off x="755640" y="404640"/>
            <a:ext cx="74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character of American people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4288680" y="198900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- The American D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12" descr="020"/>
          <p:cNvPicPr/>
          <p:nvPr/>
        </p:nvPicPr>
        <p:blipFill>
          <a:blip r:embed="rId1"/>
          <a:stretch/>
        </p:blipFill>
        <p:spPr>
          <a:xfrm>
            <a:off x="539640" y="1989000"/>
            <a:ext cx="3529080" cy="27162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5"/>
          <p:cNvSpPr/>
          <p:nvPr/>
        </p:nvSpPr>
        <p:spPr>
          <a:xfrm>
            <a:off x="2127240" y="5299920"/>
            <a:ext cx="33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- Success formul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16" descr="put_k_uspehu-206x300"/>
          <p:cNvPicPr/>
          <p:nvPr/>
        </p:nvPicPr>
        <p:blipFill>
          <a:blip r:embed="rId2"/>
          <a:stretch/>
        </p:blipFill>
        <p:spPr>
          <a:xfrm>
            <a:off x="5796000" y="3141720"/>
            <a:ext cx="22827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>
            <a:off x="755640" y="404640"/>
            <a:ext cx="74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character of American people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851280" y="2996640"/>
            <a:ext cx="34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- American soul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10" descr="4b699df7ebb26flag"/>
          <p:cNvPicPr/>
          <p:nvPr/>
        </p:nvPicPr>
        <p:blipFill>
          <a:blip r:embed="rId1"/>
          <a:stretch/>
        </p:blipFill>
        <p:spPr>
          <a:xfrm>
            <a:off x="395280" y="1628640"/>
            <a:ext cx="3024360" cy="27370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1"/>
          <p:cNvSpPr/>
          <p:nvPr/>
        </p:nvSpPr>
        <p:spPr>
          <a:xfrm>
            <a:off x="3784680" y="1988280"/>
            <a:ext cx="39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- American  Languag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12" descr="черты характера американцев"/>
          <p:cNvPicPr/>
          <p:nvPr/>
        </p:nvPicPr>
        <p:blipFill>
          <a:blip r:embed="rId2"/>
          <a:stretch/>
        </p:blipFill>
        <p:spPr>
          <a:xfrm>
            <a:off x="3924360" y="3716280"/>
            <a:ext cx="41036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7"/>
          <p:cNvSpPr txBox="1"/>
          <p:nvPr/>
        </p:nvSpPr>
        <p:spPr>
          <a:xfrm>
            <a:off x="1332000" y="476280"/>
            <a:ext cx="68166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USA &amp; The U.K.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imilarit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284720" y="19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539640" y="19450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дружелюбие, улыбчивость, жизнерадостность, пунктуальность, гордость за принадлежность к своей нации, к своей стра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12"/>
          <p:cNvSpPr txBox="1"/>
          <p:nvPr/>
        </p:nvSpPr>
        <p:spPr>
          <a:xfrm>
            <a:off x="2627280" y="3068640"/>
            <a:ext cx="417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fferenc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611280" y="3845160"/>
            <a:ext cx="828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- Американцам присущ индивидуализ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- Англичане на первое место ставят духовные ц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- Американцы более непосредственны, откры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- Для англичан история имеет первостепенное 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- Американцам присуще стремление к постоянному измен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- Англичане консерватив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- Американцы не склонны шутить, англичане любят юмо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>
            <a:off x="1908000" y="333360"/>
            <a:ext cx="5256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cce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clusions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cce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284720" y="19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1187280" y="1266840"/>
            <a:ext cx="662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циональный характер – особый психогенетический склад народа, возникающий на основе всего его исторического и социально-культурного опыта, всей совокупности традиций, идей, ценностей, стереотипов, идеалов, интересов, распространенных в данной этнической общ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"/>
              </a:rPr>
              <a:t>В результате исследовательской работы мы пришли к выводу о том, что </a:t>
            </a: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национальный характер англичан и американцев во многом сформировался под влиянием географического положения этих стра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395280" y="516636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авнивая национальный характер англичан и американцев, мы отметили как общие черты, сформировавшиеся под влиянием схожих географических особенностей стран, так и отлич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ые также определяются особенностями их географического положени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4284720" y="19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WordArt 6"/>
          <p:cNvSpPr txBox="1"/>
          <p:nvPr/>
        </p:nvSpPr>
        <p:spPr>
          <a:xfrm>
            <a:off x="1403280" y="1989000"/>
            <a:ext cx="676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ffcc66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s for watching</a:t>
            </a:r>
            <a:endParaRPr b="0" i="1" lang="en-US" sz="1800" spc="1" strike="noStrike">
              <a:ln w="12600">
                <a:solidFill>
                  <a:srgbClr val="ffcc66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8920" y="188640"/>
            <a:ext cx="403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ff"/>
                </a:solidFill>
                <a:latin typeface="Arial"/>
              </a:rPr>
              <a:t>Методы и Приём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"/>
              </a:rPr>
              <a:t>описа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"/>
              </a:rPr>
              <a:t>систематизац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"/>
              </a:rPr>
              <a:t>классификац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"/>
              </a:rPr>
              <a:t>анализ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Arial"/>
              </a:rPr>
              <a:t>сравнени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24000" y="2705040"/>
            <a:ext cx="856908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одерж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Географическое положение Великобрит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Образ жизни  и занятия англич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Особенности национального характера англич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Географическое положение С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браз жизни  и занятия америка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Особенности национального характера американц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Сходства и отличия национального характера жителей Великобритании и СШ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Прямоугольник 4" descr=""/>
          <p:cNvPicPr/>
          <p:nvPr/>
        </p:nvPicPr>
        <p:blipFill>
          <a:blip r:embed="rId1"/>
          <a:stretch/>
        </p:blipFill>
        <p:spPr>
          <a:xfrm>
            <a:off x="1195560" y="182520"/>
            <a:ext cx="5943600" cy="3608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2"/>
          <a:stretch/>
        </p:blipFill>
        <p:spPr>
          <a:xfrm>
            <a:off x="1547640" y="2689200"/>
            <a:ext cx="59770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10"/>
          <p:cNvSpPr txBox="1"/>
          <p:nvPr/>
        </p:nvSpPr>
        <p:spPr>
          <a:xfrm>
            <a:off x="1979640" y="549360"/>
            <a:ext cx="585612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ritish style of li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598560" cy="2114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5-48-31"/>
          <p:cNvPicPr/>
          <p:nvPr/>
        </p:nvPicPr>
        <p:blipFill>
          <a:blip r:embed="rId2"/>
          <a:stretch/>
        </p:blipFill>
        <p:spPr>
          <a:xfrm>
            <a:off x="5580000" y="1916280"/>
            <a:ext cx="2622600" cy="2950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430960dbf0c4"/>
          <p:cNvPicPr/>
          <p:nvPr/>
        </p:nvPicPr>
        <p:blipFill>
          <a:blip r:embed="rId3"/>
          <a:stretch/>
        </p:blipFill>
        <p:spPr>
          <a:xfrm>
            <a:off x="2484360" y="4724280"/>
            <a:ext cx="3287880" cy="19875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7"/>
          <p:cNvSpPr/>
          <p:nvPr/>
        </p:nvSpPr>
        <p:spPr>
          <a:xfrm>
            <a:off x="468360" y="4221000"/>
            <a:ext cx="39355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Gardening in Great Bri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1979640" y="512640"/>
            <a:ext cx="58561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ritish style of li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8" name="Picture 7" descr="2096"/>
          <p:cNvPicPr/>
          <p:nvPr/>
        </p:nvPicPr>
        <p:blipFill>
          <a:blip r:embed="rId1"/>
          <a:stretch/>
        </p:blipFill>
        <p:spPr>
          <a:xfrm>
            <a:off x="684360" y="1989000"/>
            <a:ext cx="3384360" cy="2449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8"/>
          <p:cNvSpPr/>
          <p:nvPr/>
        </p:nvSpPr>
        <p:spPr>
          <a:xfrm>
            <a:off x="684360" y="4581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Fishing is an Important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3960720" cy="288792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539640" y="53737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The fishing industry provides about 70% of British fish supplies and is an important source of employment in a number of por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4284720" y="234936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ishing is a favorite activity of British 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1979640" y="512640"/>
            <a:ext cx="58561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ritish style of lif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539640" y="1701720"/>
            <a:ext cx="6743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Spending Holidays at the Sea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1042920" y="602136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</a:rPr>
              <a:t>Million of people spend their holidays away from hom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1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640872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1674329_6"/>
          <p:cNvPicPr/>
          <p:nvPr/>
        </p:nvPicPr>
        <p:blipFill>
          <a:blip r:embed="rId1"/>
          <a:stretch/>
        </p:blipFill>
        <p:spPr>
          <a:xfrm>
            <a:off x="684360" y="1484280"/>
            <a:ext cx="3171600" cy="4753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4788000" y="1628640"/>
            <a:ext cx="367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Verdana"/>
              </a:rPr>
              <a:t>The main traits of British people are hospitality and good-nat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5" descr="1235578_divab"/>
          <p:cNvPicPr/>
          <p:nvPr/>
        </p:nvPicPr>
        <p:blipFill>
          <a:blip r:embed="rId2"/>
          <a:stretch/>
        </p:blipFill>
        <p:spPr>
          <a:xfrm>
            <a:off x="4427640" y="3429000"/>
            <a:ext cx="4321080" cy="2427120"/>
          </a:xfrm>
          <a:prstGeom prst="rect">
            <a:avLst/>
          </a:prstGeom>
          <a:ln w="0">
            <a:noFill/>
          </a:ln>
        </p:spPr>
      </p:pic>
      <p:sp>
        <p:nvSpPr>
          <p:cNvPr id="270" name="WordArt 8"/>
          <p:cNvSpPr txBox="1"/>
          <p:nvPr/>
        </p:nvSpPr>
        <p:spPr>
          <a:xfrm>
            <a:off x="755640" y="404640"/>
            <a:ext cx="71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>
                    <a:alpha val="6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character of British peopl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>
                  <a:alpha val="6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4211640" y="1557360"/>
            <a:ext cx="266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- C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onservat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9" descr="lond_15-london-the-classical-red-phone-box"/>
          <p:cNvPicPr/>
          <p:nvPr/>
        </p:nvPicPr>
        <p:blipFill>
          <a:blip r:embed="rId1"/>
          <a:stretch/>
        </p:blipFill>
        <p:spPr>
          <a:xfrm>
            <a:off x="4284720" y="3716280"/>
            <a:ext cx="1965240" cy="2952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1" descr="cbe24e16e4ad140751b888f5e6319f7a"/>
          <p:cNvPicPr/>
          <p:nvPr/>
        </p:nvPicPr>
        <p:blipFill>
          <a:blip r:embed="rId2"/>
          <a:stretch/>
        </p:blipFill>
        <p:spPr>
          <a:xfrm>
            <a:off x="6443640" y="2421000"/>
            <a:ext cx="2397240" cy="3600360"/>
          </a:xfrm>
          <a:prstGeom prst="rect">
            <a:avLst/>
          </a:prstGeom>
          <a:ln w="0">
            <a:noFill/>
          </a:ln>
        </p:spPr>
      </p:pic>
      <p:sp>
        <p:nvSpPr>
          <p:cNvPr id="274" name="WordArt 35"/>
          <p:cNvSpPr txBox="1"/>
          <p:nvPr/>
        </p:nvSpPr>
        <p:spPr>
          <a:xfrm>
            <a:off x="755640" y="404640"/>
            <a:ext cx="741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ffff">
                    <a:alpha val="6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character of British people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00ffff">
                  <a:alpha val="6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Rectangle 36"/>
          <p:cNvSpPr/>
          <p:nvPr/>
        </p:nvSpPr>
        <p:spPr>
          <a:xfrm>
            <a:off x="539280" y="515772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- On the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37" descr="Елизавета I"/>
          <p:cNvPicPr/>
          <p:nvPr/>
        </p:nvPicPr>
        <p:blipFill>
          <a:blip r:embed="rId3"/>
          <a:stretch/>
        </p:blipFill>
        <p:spPr>
          <a:xfrm>
            <a:off x="539640" y="1125360"/>
            <a:ext cx="3127320" cy="3888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8"/>
          <p:cNvSpPr/>
          <p:nvPr/>
        </p:nvSpPr>
        <p:spPr>
          <a:xfrm>
            <a:off x="539640" y="57340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itish people respect their traditions  and his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9"/>
          <p:cNvSpPr/>
          <p:nvPr/>
        </p:nvSpPr>
        <p:spPr>
          <a:xfrm>
            <a:off x="4427640" y="23493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rvatism is their characteristic fe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7:08:19Z</dcterms:created>
  <dc:creator>Ученик8</dc:creator>
  <dc:description/>
  <dc:language>en-US</dc:language>
  <cp:lastModifiedBy>loa</cp:lastModifiedBy>
  <dcterms:modified xsi:type="dcterms:W3CDTF">2015-05-29T06:39:46Z</dcterms:modified>
  <cp:revision>60</cp:revision>
  <dc:subject/>
  <dc:title>Влияние географического положения страны на жизнь и характер людей</dc:title>
</cp:coreProperties>
</file>