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6D44-A57F-44ED-BA19-BC039179F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4373-5CEE-431D-BB1B-DB2EDA98C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121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5AA6-5599-4386-B67E-89C3362B48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D52-8827-4FC7-BE29-254FD048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3EE-FD52-440E-87EA-71ED27A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A5B-8D59-4CEF-B3D8-293C06C5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3D5-5411-44E2-AA2B-D9926A8E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C5A-33D5-4F58-8447-2A7013A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C0F-9D26-4EEF-AF48-43CBDE47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3FE-2236-4B1D-A447-B1475A08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F71-78E5-4C03-B18C-1B29E796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28E-8497-4921-B257-1DE9A5B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4F8-6E4D-4F4E-82B7-2907C8C6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EB9-30D2-4C71-AF07-3D36980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73D-45C0-4A4B-A4B5-08C4D0B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9d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7B7-5EAB-4075-BED1-4AB023B64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60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 Febru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Arial"/>
              </a:rPr>
              <a:t>Tastes diff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6215040" y="3000240"/>
            <a:ext cx="2487600" cy="3143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1000080" y="928800"/>
            <a:ext cx="2197080" cy="235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Playing computer games 2"/>
          <p:cNvPicPr/>
          <p:nvPr/>
        </p:nvPicPr>
        <p:blipFill>
          <a:blip r:embed="rId3"/>
          <a:stretch/>
        </p:blipFill>
        <p:spPr>
          <a:xfrm>
            <a:off x="642960" y="371484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Listening to music"/>
          <p:cNvPicPr/>
          <p:nvPr/>
        </p:nvPicPr>
        <p:blipFill>
          <a:blip r:embed="rId4"/>
          <a:stretch/>
        </p:blipFill>
        <p:spPr>
          <a:xfrm>
            <a:off x="3071880" y="3500280"/>
            <a:ext cx="290808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1285920" y="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Febru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Arial"/>
              </a:rPr>
              <a:t>Hobbies and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hess"/>
          <p:cNvPicPr/>
          <p:nvPr/>
        </p:nvPicPr>
        <p:blipFill>
          <a:blip r:embed="rId5"/>
          <a:stretch/>
        </p:blipFill>
        <p:spPr>
          <a:xfrm>
            <a:off x="4572000" y="1071720"/>
            <a:ext cx="2481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28760" y="4357800"/>
            <a:ext cx="2958840" cy="221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785880" y="1357200"/>
            <a:ext cx="2320920" cy="18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6500880" y="785880"/>
            <a:ext cx="2415960" cy="3071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73"/>
                </a:solidFill>
                <a:latin typeface="Arial"/>
              </a:rPr>
              <a:t>Hobbies and activ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rawing"/>
          <p:cNvPicPr/>
          <p:nvPr/>
        </p:nvPicPr>
        <p:blipFill>
          <a:blip r:embed="rId4"/>
          <a:stretch/>
        </p:blipFill>
        <p:spPr>
          <a:xfrm>
            <a:off x="3786120" y="1143000"/>
            <a:ext cx="1928880" cy="2440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Reading books"/>
          <p:cNvPicPr/>
          <p:nvPr/>
        </p:nvPicPr>
        <p:blipFill>
          <a:blip r:embed="rId5"/>
          <a:stretch/>
        </p:blipFill>
        <p:spPr>
          <a:xfrm>
            <a:off x="3714840" y="4500720"/>
            <a:ext cx="1714320" cy="19285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j0301480"/>
          <p:cNvPicPr/>
          <p:nvPr/>
        </p:nvPicPr>
        <p:blipFill>
          <a:blip r:embed="rId6"/>
          <a:stretch/>
        </p:blipFill>
        <p:spPr>
          <a:xfrm>
            <a:off x="6072120" y="4357800"/>
            <a:ext cx="26431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g   these words  into the tab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0" y="3141720"/>
            <a:ext cx="4572000" cy="71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572000" y="3141720"/>
            <a:ext cx="4572000" cy="71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indoo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857160" y="328464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outdoo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1"/>
          <p:cNvSpPr/>
          <p:nvPr/>
        </p:nvSpPr>
        <p:spPr>
          <a:xfrm>
            <a:off x="4572000" y="3141720"/>
            <a:ext cx="0" cy="37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5"/>
          <p:cNvSpPr/>
          <p:nvPr/>
        </p:nvSpPr>
        <p:spPr>
          <a:xfrm>
            <a:off x="2286000" y="1857240"/>
            <a:ext cx="2189160" cy="4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se r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6"/>
          <p:cNvSpPr/>
          <p:nvPr/>
        </p:nvSpPr>
        <p:spPr>
          <a:xfrm>
            <a:off x="214200" y="1285920"/>
            <a:ext cx="192888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8"/>
          <p:cNvSpPr/>
          <p:nvPr/>
        </p:nvSpPr>
        <p:spPr>
          <a:xfrm>
            <a:off x="7215120" y="1643040"/>
            <a:ext cx="1714680" cy="928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ing 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2"/>
          <p:cNvSpPr/>
          <p:nvPr/>
        </p:nvSpPr>
        <p:spPr>
          <a:xfrm>
            <a:off x="5929200" y="1428840"/>
            <a:ext cx="1440000" cy="431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23"/>
          <p:cNvSpPr/>
          <p:nvPr/>
        </p:nvSpPr>
        <p:spPr>
          <a:xfrm>
            <a:off x="2428920" y="2357280"/>
            <a:ext cx="2214360" cy="857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24"/>
          <p:cNvSpPr/>
          <p:nvPr/>
        </p:nvSpPr>
        <p:spPr>
          <a:xfrm>
            <a:off x="4745160" y="1865160"/>
            <a:ext cx="1368360" cy="717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алее 31">
            <a:hlinkClick r:id="" action="ppaction://hlinkshowjump?jump=nextslide"/>
          </p:cNvPr>
          <p:cNvSpPr/>
          <p:nvPr/>
        </p:nvSpPr>
        <p:spPr>
          <a:xfrm>
            <a:off x="8317080" y="6524640"/>
            <a:ext cx="826920" cy="333360"/>
          </a:xfrm>
          <a:custGeom>
            <a:avLst/>
            <a:gdLst>
              <a:gd name="textAreaLeft" fmla="*/ 21600 w 826920"/>
              <a:gd name="textAreaRight" fmla="*/ 805320 w 826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3546" h="21600">
                <a:moveTo>
                  <a:pt x="0" y="0"/>
                </a:moveTo>
                <a:lnTo>
                  <a:pt x="53546" y="0"/>
                </a:lnTo>
                <a:lnTo>
                  <a:pt x="53546" y="21600"/>
                </a:lnTo>
                <a:lnTo>
                  <a:pt x="0" y="21600"/>
                </a:lnTo>
                <a:close/>
              </a:path>
              <a:path fill="lightenLess" w="53546" h="21600">
                <a:moveTo>
                  <a:pt x="0" y="0"/>
                </a:moveTo>
                <a:lnTo>
                  <a:pt x="53546" y="0"/>
                </a:lnTo>
                <a:lnTo>
                  <a:pt x="52146" y="1400"/>
                </a:lnTo>
                <a:lnTo>
                  <a:pt x="1400" y="1400"/>
                </a:lnTo>
                <a:close/>
              </a:path>
              <a:path fill="darken" w="53546" h="21600">
                <a:moveTo>
                  <a:pt x="53546" y="0"/>
                </a:moveTo>
                <a:lnTo>
                  <a:pt x="53546" y="21600"/>
                </a:lnTo>
                <a:lnTo>
                  <a:pt x="52146" y="20200"/>
                </a:lnTo>
                <a:lnTo>
                  <a:pt x="52146" y="1400"/>
                </a:lnTo>
                <a:close/>
              </a:path>
              <a:path fill="darkenLess" w="53546" h="21600">
                <a:moveTo>
                  <a:pt x="53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46" y="20200"/>
                </a:lnTo>
                <a:close/>
              </a:path>
              <a:path fill="lighten" w="53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546" h="21600">
                <a:moveTo>
                  <a:pt x="19766" y="3794"/>
                </a:moveTo>
                <a:lnTo>
                  <a:pt x="33779" y="10800"/>
                </a:lnTo>
                <a:lnTo>
                  <a:pt x="1976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8"/>
          <p:cNvSpPr/>
          <p:nvPr/>
        </p:nvSpPr>
        <p:spPr>
          <a:xfrm>
            <a:off x="0" y="2214720"/>
            <a:ext cx="1857240" cy="4284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9"/>
          <p:cNvSpPr/>
          <p:nvPr/>
        </p:nvSpPr>
        <p:spPr>
          <a:xfrm>
            <a:off x="2214720" y="1357200"/>
            <a:ext cx="1511280" cy="432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>
            <a:off x="3500280" y="642960"/>
            <a:ext cx="2084400" cy="503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>
            <a:off x="1500120" y="642960"/>
            <a:ext cx="1500120" cy="642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9d1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Диаграмма 1"/>
          <p:cNvGraphicFramePr/>
          <p:nvPr/>
        </p:nvGraphicFramePr>
        <p:xfrm>
          <a:off x="495360" y="357120"/>
          <a:ext cx="815328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Диаграмма 1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495360" y="357120"/>
                    <a:ext cx="81532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dmin</cp:lastModifiedBy>
  <dcterms:modified xsi:type="dcterms:W3CDTF">2013-02-03T04:28:06Z</dcterms:modified>
  <cp:revision>55</cp:revision>
  <dc:subject/>
  <dc:title>Слайд 1</dc:title>
</cp:coreProperties>
</file>