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0733-7184-461F-9F26-70FBCAAD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BD88-898F-49BB-868F-A56D17CA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74E-60DB-4E70-A453-8B5367E0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5B4A-FFA5-41CF-8472-0DB94257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6782-6A00-486F-91A3-E6026C73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73A-FD0F-45DC-92BC-DA0C1D06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F0D2-CB5D-42A0-BD5D-6C6F8FFA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96DD-4E69-4DAA-9BA1-74E5B9CE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EFD-DEF4-4B2D-B960-AF58C29B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1EC0-EA6C-49BE-9EEB-B0606248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2586-C660-4DBF-B615-5B9974B7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A15-21C1-48FC-92BE-64F76FD6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65AA-1117-44DF-AD50-CBB56AAE6E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51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If you don’t think about future, you will not have it. </a:t>
            </a:r>
            <a:br>
              <a:rPr sz="2800"/>
            </a:b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J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alsworthy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15920"/>
            <a:ext cx="6400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Киты copy"/>
          <p:cNvPicPr/>
          <p:nvPr/>
        </p:nvPicPr>
        <p:blipFill>
          <a:blip r:embed="rId1"/>
          <a:stretch/>
        </p:blipFill>
        <p:spPr>
          <a:xfrm>
            <a:off x="1763640" y="2133720"/>
            <a:ext cx="5616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http://netdna.webdesignerdepot.com/uploads/trash_art/Robert-Bradford8.jpg"/>
          <p:cNvPicPr/>
          <p:nvPr/>
        </p:nvPicPr>
        <p:blipFill>
          <a:blip r:embed="rId1"/>
          <a:stretch/>
        </p:blipFill>
        <p:spPr>
          <a:xfrm>
            <a:off x="2700360" y="333360"/>
            <a:ext cx="37688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http://www.pondly.com/wp-content/uploads/2011/04/20110427_barack_obama_600x733.jpg"/>
          <p:cNvPicPr/>
          <p:nvPr/>
        </p:nvPicPr>
        <p:blipFill>
          <a:blip r:embed="rId1"/>
          <a:stretch/>
        </p:blipFill>
        <p:spPr>
          <a:xfrm>
            <a:off x="2411280" y="476280"/>
            <a:ext cx="4586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http://highlandconservancy.typepad.com/my_weblog/images/2007/12/16/trashosaurus_2.jpg"/>
          <p:cNvPicPr/>
          <p:nvPr/>
        </p:nvPicPr>
        <p:blipFill>
          <a:blip r:embed="rId1"/>
          <a:stretch/>
        </p:blipFill>
        <p:spPr>
          <a:xfrm>
            <a:off x="2124000" y="981000"/>
            <a:ext cx="457668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http://2.bp.blogspot.com/-I2IpvgOPwe0/TeZxL0kAh7I/AAAAAAAABJE/jhQl77iskWI/s1600/Leo-Sewell-junk-sculptures-550x338.jpg"/>
          <p:cNvPicPr/>
          <p:nvPr/>
        </p:nvPicPr>
        <p:blipFill>
          <a:blip r:embed="rId1"/>
          <a:stretch/>
        </p:blipFill>
        <p:spPr>
          <a:xfrm>
            <a:off x="1476360" y="1125360"/>
            <a:ext cx="5688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tter lasts longer than 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ffic ticket                  - 1 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anana peel                  - up to six mon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ol sock                      - 1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n cans                          - 100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stic bottles                - up to 500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lass                                - for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img1.liveinternet.ru/images/attach/c/4/79/430/79430845_4524271_chamsocdatuvochuoi.jpg"/>
          <p:cNvPicPr/>
          <p:nvPr/>
        </p:nvPicPr>
        <p:blipFill>
          <a:blip r:embed="rId1"/>
          <a:stretch/>
        </p:blipFill>
        <p:spPr>
          <a:xfrm>
            <a:off x="3492360" y="234936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3390_0"/>
          <p:cNvPicPr/>
          <p:nvPr/>
        </p:nvPicPr>
        <p:blipFill>
          <a:blip r:embed="rId2"/>
          <a:stretch/>
        </p:blipFill>
        <p:spPr>
          <a:xfrm>
            <a:off x="3924360" y="2852640"/>
            <a:ext cx="770040" cy="577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http://im3-tub-ru.yandex.net/i?id=110107320-02-72&amp;n=21"/>
          <p:cNvPicPr/>
          <p:nvPr/>
        </p:nvPicPr>
        <p:blipFill>
          <a:blip r:embed="rId3"/>
          <a:stretch/>
        </p:blipFill>
        <p:spPr>
          <a:xfrm>
            <a:off x="4140360" y="1844640"/>
            <a:ext cx="433080" cy="581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http://im7-tub-ru.yandex.net/i?id=30205876-61-72&amp;n=21"/>
          <p:cNvPicPr/>
          <p:nvPr/>
        </p:nvPicPr>
        <p:blipFill>
          <a:blip r:embed="rId4"/>
          <a:stretch/>
        </p:blipFill>
        <p:spPr>
          <a:xfrm>
            <a:off x="2843280" y="3357720"/>
            <a:ext cx="792000" cy="498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http://images.reklama.com.ua/2010-08-20/511749/photos0-800x600.jpeg"/>
          <p:cNvPicPr/>
          <p:nvPr/>
        </p:nvPicPr>
        <p:blipFill>
          <a:blip r:embed="rId5"/>
          <a:stretch/>
        </p:blipFill>
        <p:spPr>
          <a:xfrm>
            <a:off x="3924360" y="3789360"/>
            <a:ext cx="718920" cy="53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http://yandex.st/lego/_/La6qi18Z8LwgnZdsAr1qy1GwCwo.gif"/>
          <p:cNvPicPr/>
          <p:nvPr/>
        </p:nvPicPr>
        <p:blipFill>
          <a:blip r:embed="rId6"/>
          <a:stretch/>
        </p:blipFill>
        <p:spPr>
          <a:xfrm>
            <a:off x="155520" y="-136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http://yandex.st/lego/_/La6qi18Z8LwgnZdsAr1qy1GwCwo.gif"/>
          <p:cNvPicPr/>
          <p:nvPr/>
        </p:nvPicPr>
        <p:blipFill>
          <a:blip r:embed="rId7"/>
          <a:stretch/>
        </p:blipFill>
        <p:spPr>
          <a:xfrm>
            <a:off x="155520" y="-136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1" descr="http://3.bp.blogspot.com/-wJe-_cDVOqg/UDfP8LbqxvI/AAAAAAAAAoU/xF_5M5q3d4E/s1600/shattered+expectations.jpg"/>
          <p:cNvPicPr/>
          <p:nvPr/>
        </p:nvPicPr>
        <p:blipFill>
          <a:blip r:embed="rId8"/>
          <a:stretch/>
        </p:blipFill>
        <p:spPr>
          <a:xfrm>
            <a:off x="2771640" y="4365720"/>
            <a:ext cx="100836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19502644_492a0e2c21fbf5de8c41da6d111f7f4f"/>
          <p:cNvPicPr/>
          <p:nvPr/>
        </p:nvPicPr>
        <p:blipFill>
          <a:blip r:embed="rId1"/>
          <a:stretch/>
        </p:blipFill>
        <p:spPr>
          <a:xfrm>
            <a:off x="2411280" y="681120"/>
            <a:ext cx="390852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511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 Black"/>
              </a:rPr>
              <a:t>Muradym natural pa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2060280"/>
            <a:ext cx="6400800" cy="3794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Picture 4" descr="P1060347"/>
          <p:cNvPicPr/>
          <p:nvPr/>
        </p:nvPicPr>
        <p:blipFill>
          <a:blip r:embed="rId1"/>
          <a:stretch/>
        </p:blipFill>
        <p:spPr>
          <a:xfrm>
            <a:off x="1692360" y="2205000"/>
            <a:ext cx="2158920" cy="162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P1060180"/>
          <p:cNvPicPr/>
          <p:nvPr/>
        </p:nvPicPr>
        <p:blipFill>
          <a:blip r:embed="rId2"/>
          <a:stretch/>
        </p:blipFill>
        <p:spPr>
          <a:xfrm>
            <a:off x="5148360" y="4022640"/>
            <a:ext cx="2111400" cy="1584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Gorge5_2"/>
          <p:cNvPicPr/>
          <p:nvPr/>
        </p:nvPicPr>
        <p:blipFill>
          <a:blip r:embed="rId3"/>
          <a:stretch/>
        </p:blipFill>
        <p:spPr>
          <a:xfrm>
            <a:off x="5041800" y="2205000"/>
            <a:ext cx="2205000" cy="165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P1060327"/>
          <p:cNvPicPr/>
          <p:nvPr/>
        </p:nvPicPr>
        <p:blipFill>
          <a:blip r:embed="rId4"/>
          <a:stretch/>
        </p:blipFill>
        <p:spPr>
          <a:xfrm>
            <a:off x="1763640" y="4005360"/>
            <a:ext cx="210672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5"/>
          <p:cNvSpPr/>
          <p:nvPr/>
        </p:nvSpPr>
        <p:spPr>
          <a:xfrm>
            <a:off x="3419640" y="2492280"/>
            <a:ext cx="2665080" cy="18003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hey are in d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AutoShape 6"/>
          <p:cNvCxnSpPr/>
          <p:nvPr/>
        </p:nvCxnSpPr>
        <p:spPr>
          <a:xfrm>
            <a:off x="2339640" y="2781360"/>
            <a:ext cx="97236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AutoShape 3"/>
          <p:cNvCxnSpPr/>
          <p:nvPr/>
        </p:nvCxnSpPr>
        <p:spPr>
          <a:xfrm flipV="1">
            <a:off x="2340000" y="3644640"/>
            <a:ext cx="791280" cy="5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7"/>
          <p:cNvCxnSpPr/>
          <p:nvPr/>
        </p:nvCxnSpPr>
        <p:spPr>
          <a:xfrm flipH="1">
            <a:off x="6011640" y="2781000"/>
            <a:ext cx="695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AutoShape 4"/>
          <p:cNvCxnSpPr/>
          <p:nvPr/>
        </p:nvCxnSpPr>
        <p:spPr>
          <a:xfrm flipH="1" flipV="1">
            <a:off x="6155640" y="3715920"/>
            <a:ext cx="61020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00000" y="1884600"/>
            <a:ext cx="132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4481640" y="20484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0" y="2199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1"/>
          <p:cNvSpPr/>
          <p:nvPr/>
        </p:nvSpPr>
        <p:spPr>
          <a:xfrm>
            <a:off x="1257840" y="357336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2"/>
          <p:cNvSpPr/>
          <p:nvPr/>
        </p:nvSpPr>
        <p:spPr>
          <a:xfrm>
            <a:off x="6805800" y="2492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3"/>
          <p:cNvSpPr/>
          <p:nvPr/>
        </p:nvSpPr>
        <p:spPr>
          <a:xfrm>
            <a:off x="6956640" y="378936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4" descr="http://i51.fastpic.ru/big/2013/0317/c6/a055aebc6c76684d6c6b84f948607ec6.jpeg"/>
          <p:cNvPicPr/>
          <p:nvPr/>
        </p:nvPicPr>
        <p:blipFill>
          <a:blip r:embed="rId1"/>
          <a:stretch/>
        </p:blipFill>
        <p:spPr>
          <a:xfrm>
            <a:off x="5867280" y="289080"/>
            <a:ext cx="2646360" cy="2117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http://copypast.ru/foto7/2095/vsemirnyj_den_okeana_7.jpg"/>
          <p:cNvPicPr/>
          <p:nvPr/>
        </p:nvPicPr>
        <p:blipFill>
          <a:blip r:embed="rId2"/>
          <a:stretch/>
        </p:blipFill>
        <p:spPr>
          <a:xfrm>
            <a:off x="826920" y="4437000"/>
            <a:ext cx="2738520" cy="2049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http://img.mota.ru/upload/wallpapers/2009/07/15/11/02/3824/animals_882-crop.jpg"/>
          <p:cNvPicPr/>
          <p:nvPr/>
        </p:nvPicPr>
        <p:blipFill>
          <a:blip r:embed="rId3"/>
          <a:stretch/>
        </p:blipFill>
        <p:spPr>
          <a:xfrm>
            <a:off x="5724360" y="4275000"/>
            <a:ext cx="2824200" cy="2117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http://img.mota.ru/upload/wallpapers/2009/07/16/10/02/13021/nature_099-crop.jpg"/>
          <p:cNvPicPr/>
          <p:nvPr/>
        </p:nvPicPr>
        <p:blipFill>
          <a:blip r:embed="rId4"/>
          <a:stretch/>
        </p:blipFill>
        <p:spPr>
          <a:xfrm>
            <a:off x="755640" y="225360"/>
            <a:ext cx="27525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2"/>
          <p:cNvSpPr/>
          <p:nvPr/>
        </p:nvSpPr>
        <p:spPr>
          <a:xfrm>
            <a:off x="1908000" y="836640"/>
            <a:ext cx="5040360" cy="3993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Earth is our ga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It’s a beautiful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For all living creatu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For all the human 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Helping mother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We can peacefully ro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We all deserve a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We can call our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080" y="4941720"/>
            <a:ext cx="5516280" cy="6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She has got a green thu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4" descr=""/>
          <p:cNvPicPr/>
          <p:nvPr/>
        </p:nvPicPr>
        <p:blipFill>
          <a:blip r:embed="rId2"/>
          <a:stretch/>
        </p:blipFill>
        <p:spPr>
          <a:xfrm>
            <a:off x="3203640" y="907920"/>
            <a:ext cx="285588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656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50"/>
                </a:solidFill>
                <a:latin typeface="Arial Black"/>
              </a:rPr>
              <a:t>Think gre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3745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i?id=297086783-13-72&amp;n=21"/>
          <p:cNvPicPr/>
          <p:nvPr/>
        </p:nvPicPr>
        <p:blipFill>
          <a:blip r:embed="rId1"/>
          <a:stretch/>
        </p:blipFill>
        <p:spPr>
          <a:xfrm>
            <a:off x="2087640" y="2444760"/>
            <a:ext cx="493236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co"/>
          <p:cNvPicPr/>
          <p:nvPr/>
        </p:nvPicPr>
        <p:blipFill>
          <a:blip r:embed="rId1"/>
          <a:stretch/>
        </p:blipFill>
        <p:spPr>
          <a:xfrm>
            <a:off x="1487520" y="836640"/>
            <a:ext cx="61088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C:\Users\1\Desktop\2c47078a9806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profi-forex.org/system/news/A13-16.jpg"/>
          <p:cNvPicPr/>
          <p:nvPr/>
        </p:nvPicPr>
        <p:blipFill>
          <a:blip r:embed="rId1"/>
          <a:stretch/>
        </p:blipFill>
        <p:spPr>
          <a:xfrm>
            <a:off x="1403280" y="907920"/>
            <a:ext cx="63817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692280"/>
            <a:ext cx="6400800" cy="4946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nvironment, nat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Earth,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o be in dan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cycle, re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o pollute – pol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o protect – pro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o appear – to disapp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abitable – inhabi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ubbish, litter, wastes, tr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6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42560" y="620640"/>
            <a:ext cx="7201080" cy="532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.                       </a:t>
            </a:r>
            <a:r>
              <a:rPr b="1" lang="en-US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Tr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сор, мусорный бак, отбро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Trash bag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– мешок для мус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сорная корзина, ведро, помой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Trash can –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усорная корз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In the trash –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а помой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хлам, дрянь, дребед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.   1. мусор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sh bin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сорное ведр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sh art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440" y="5157720"/>
            <a:ext cx="5486400" cy="1014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cycle it or better yet, turn all that trash into ar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http://netdna.webdesignerdepot.com/uploads/trash_art/dirtywhitetrash.jpg"/>
          <p:cNvPicPr/>
          <p:nvPr/>
        </p:nvPicPr>
        <p:blipFill>
          <a:blip r:embed="rId1"/>
          <a:srcRect l="0" t="10980" r="0" b="1098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9T13:35:32Z</dcterms:created>
  <dc:creator>1</dc:creator>
  <dc:description/>
  <dc:language>en-US</dc:language>
  <cp:lastModifiedBy>1</cp:lastModifiedBy>
  <dcterms:modified xsi:type="dcterms:W3CDTF">2013-12-19T14:26:08Z</dcterms:modified>
  <cp:revision>3</cp:revision>
  <dc:subject/>
  <dc:title>If you don’t think about future, you will not have it.                                              (J.Galsworthy) </dc:title>
</cp:coreProperties>
</file>