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291-30D6-463E-B94E-B246FE26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B00-3827-428D-953F-9B4B460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CA9-F509-447A-8DAB-BACDB843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EAA-9283-4A1E-9E1D-6B9A5B29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E00-9B02-46F1-8998-AF6A7387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C0-7B2A-41F8-A6A3-616FCC9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4FF-C2AB-4BC4-83CE-4414262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BC0-D220-4602-B34A-560D177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331-A932-4558-A41E-39E8F32F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224-535C-4A0C-BD7D-554D91E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5E8-8618-47F5-9472-C3ABB8C6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7F6-5E53-4794-81ED-26BDBBA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94A-C5C4-4DF1-A22A-120AC99E0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Памятник полярных конвоев открыли на Большом Смоленском прос…"/>
          <p:cNvPicPr/>
          <p:nvPr/>
        </p:nvPicPr>
        <p:blipFill>
          <a:blip r:embed="rId1"/>
          <a:stretch/>
        </p:blipFill>
        <p:spPr>
          <a:xfrm>
            <a:off x="4838760" y="1022400"/>
            <a:ext cx="7196040" cy="479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Знай и люби свой город - Петербург. . Памятник морякам Полярных конвоев."/>
          <p:cNvPicPr/>
          <p:nvPr/>
        </p:nvPicPr>
        <p:blipFill>
          <a:blip r:embed="rId2"/>
          <a:stretch/>
        </p:blipFill>
        <p:spPr>
          <a:xfrm>
            <a:off x="289080" y="109440"/>
            <a:ext cx="43783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4:14:18Z</dcterms:created>
  <dc:creator>Жуковень Сергей</dc:creator>
  <dc:description/>
  <dc:language>en-US</dc:language>
  <cp:lastModifiedBy>COMP</cp:lastModifiedBy>
  <dcterms:modified xsi:type="dcterms:W3CDTF">2015-05-05T14:42:07Z</dcterms:modified>
  <cp:revision>3</cp:revision>
  <dc:subject/>
  <dc:title>Презентация PowerPoint</dc:title>
</cp:coreProperties>
</file>