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A4F-517C-40B1-A2F6-13A01E6F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4D7-3013-473E-A3B5-3DD8674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5C4-9790-4776-A1BB-90F4F211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DD5-8BFE-40C5-8E08-16795397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C3A-7674-431C-A880-B174D50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03B-5A32-48C5-902C-8225744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43F-8E88-4950-B602-A5943E1F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F11-695F-467A-A8D6-6D19E0E4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0FE-D178-4EF9-BB60-AB34C734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55B-C2A2-45F7-9521-6E3EA7AD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E78-5D5E-4840-96B3-10CA7CD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0CD-CD01-4DC5-A5B3-A7E6602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5734-7430-40CC-8DE0-9D7A7BC2C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27160" y="829800"/>
            <a:ext cx="6091560" cy="47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dalus"/>
                <a:ea typeface="Andalus"/>
              </a:rPr>
              <a:t>The monument to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ndalus"/>
                <a:ea typeface="Andalus"/>
              </a:rPr>
              <a:t>the Arctic convoys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ndalus"/>
                <a:ea typeface="Andalus"/>
              </a:rPr>
              <a:t>in Murmans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2" descr="Памятники Мурманска - Места для катаний - NordBike Форум"/>
          <p:cNvPicPr/>
          <p:nvPr/>
        </p:nvPicPr>
        <p:blipFill>
          <a:blip r:embed="rId1"/>
          <a:stretch/>
        </p:blipFill>
        <p:spPr>
          <a:xfrm>
            <a:off x="598320" y="187200"/>
            <a:ext cx="429768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72360" y="2647440"/>
            <a:ext cx="64864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foundation st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for the monument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Arctic convo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 Archangelsk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Picture 2" descr="www.arhcity.ru - Городские новости"/>
          <p:cNvPicPr/>
          <p:nvPr/>
        </p:nvPicPr>
        <p:blipFill>
          <a:blip r:embed="rId1"/>
          <a:stretch/>
        </p:blipFill>
        <p:spPr>
          <a:xfrm>
            <a:off x="120600" y="714240"/>
            <a:ext cx="69296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43480" y="900000"/>
            <a:ext cx="814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monument “Hope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o those killed participan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Arctic convo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 Icelan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Picture 2" descr="http://www.iceland.mid.ru/0img/victory2.JPG"/>
          <p:cNvPicPr/>
          <p:nvPr/>
        </p:nvPicPr>
        <p:blipFill>
          <a:blip r:embed="rId1"/>
          <a:stretch/>
        </p:blipFill>
        <p:spPr>
          <a:xfrm>
            <a:off x="398520" y="471600"/>
            <a:ext cx="2952720" cy="443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www.iceland.mid.ru/0img/victory3.JPG"/>
          <p:cNvPicPr/>
          <p:nvPr/>
        </p:nvPicPr>
        <p:blipFill>
          <a:blip r:embed="rId2"/>
          <a:stretch/>
        </p:blipFill>
        <p:spPr>
          <a:xfrm>
            <a:off x="6653160" y="3195720"/>
            <a:ext cx="5121360" cy="342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flot.com/science/reality/images/kon4.jpg"/>
          <p:cNvPicPr/>
          <p:nvPr/>
        </p:nvPicPr>
        <p:blipFill>
          <a:blip r:embed="rId3"/>
          <a:stretch/>
        </p:blipFill>
        <p:spPr>
          <a:xfrm>
            <a:off x="3543480" y="2965320"/>
            <a:ext cx="2724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92560" y="2671920"/>
            <a:ext cx="53895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The monument to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the Arctic convoy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Orkney island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Picture 2" descr="http://img-fotki.yandex.ru/get/4811/128731516.2/0_523df_6bb8de5_L.jpg"/>
          <p:cNvPicPr/>
          <p:nvPr/>
        </p:nvPicPr>
        <p:blipFill>
          <a:blip r:embed="rId1"/>
          <a:stretch/>
        </p:blipFill>
        <p:spPr>
          <a:xfrm>
            <a:off x="422280" y="264960"/>
            <a:ext cx="45864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92920" y="2089080"/>
            <a:ext cx="527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The Leith Merchant Navy Memorial, Scotland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Picture 2" descr="http://www.victorydaylondon.co.uk/docs/2015/01/04-0001.jpg"/>
          <p:cNvPicPr/>
          <p:nvPr/>
        </p:nvPicPr>
        <p:blipFill>
          <a:blip r:embed="rId1"/>
          <a:srcRect l="0" t="0" r="0" b="5393"/>
          <a:stretch/>
        </p:blipFill>
        <p:spPr>
          <a:xfrm>
            <a:off x="168120" y="157320"/>
            <a:ext cx="4502160" cy="65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7520" y="2830680"/>
            <a:ext cx="506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Arctic convoys’ memori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 the north of Scotlan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Picture 2" descr="http://img.beta.rian.ru/images/18242/00/182420011.jpg"/>
          <p:cNvPicPr/>
          <p:nvPr/>
        </p:nvPicPr>
        <p:blipFill>
          <a:blip r:embed="rId1"/>
          <a:stretch/>
        </p:blipFill>
        <p:spPr>
          <a:xfrm>
            <a:off x="184320" y="1052640"/>
            <a:ext cx="68832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9:48:09Z</dcterms:created>
  <dc:creator>Жуковень Сергей</dc:creator>
  <dc:description/>
  <dc:language>en-US</dc:language>
  <cp:lastModifiedBy>COMP</cp:lastModifiedBy>
  <dcterms:modified xsi:type="dcterms:W3CDTF">2015-05-05T14:37:43Z</dcterms:modified>
  <cp:revision>11</cp:revision>
  <dc:subject/>
  <dc:title>Презентация PowerPoint</dc:title>
</cp:coreProperties>
</file>