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B947-6F28-4886-8FAE-8D427B980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75F8-91D3-489A-A762-3396F07D0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2608-485E-496A-A1D9-825EBE5E6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920B-7100-4431-9CEE-479F1467E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40E5-8AD5-4B65-9DA5-81BA244E6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54A8-2F51-44CE-9EA0-1C21FEEA6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114E-DCC1-48F0-A377-8A1AAEBF0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001E-A67C-4777-8FFD-AC4EA8C5E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23BA-F698-4343-ADF8-48912E897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DAEC-55BA-4FAC-A299-7E0ACB3C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2C95-2EEE-4951-ABFD-0E0B5D12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494E-1D60-4A3B-B0C7-ED24ADE21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1E0A0-3028-4201-967C-B47003AB09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>
            <a:alpha val="1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Users\Гейнце\Desktop\презентация к уроку\presentation new 2_5.jpeg"/>
          <p:cNvPicPr/>
          <p:nvPr/>
        </p:nvPicPr>
        <p:blipFill>
          <a:blip r:embed="rId1"/>
          <a:srcRect l="0" t="14998" r="55629" b="14998"/>
          <a:stretch/>
        </p:blipFill>
        <p:spPr>
          <a:xfrm>
            <a:off x="285840" y="1571760"/>
            <a:ext cx="4357440" cy="51559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Users\Гейнце\Desktop\презентация к уроку\presentation new 2_1.jpeg"/>
          <p:cNvPicPr/>
          <p:nvPr/>
        </p:nvPicPr>
        <p:blipFill>
          <a:blip r:embed="rId2"/>
          <a:srcRect l="43440" t="3748" r="4998" b="62507"/>
          <a:stretch/>
        </p:blipFill>
        <p:spPr>
          <a:xfrm>
            <a:off x="3071880" y="214200"/>
            <a:ext cx="3286080" cy="1613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C:\Users\Гейнце\Desktop\презентация к уроку\presentation new 2_5.jpeg"/>
          <p:cNvPicPr/>
          <p:nvPr/>
        </p:nvPicPr>
        <p:blipFill>
          <a:blip r:embed="rId3"/>
          <a:srcRect l="46251" t="14998" r="13436" b="23754"/>
          <a:stretch/>
        </p:blipFill>
        <p:spPr>
          <a:xfrm>
            <a:off x="4749840" y="2071800"/>
            <a:ext cx="401148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4T18:06:04Z</dcterms:created>
  <dc:creator>Гейнце Лариса</dc:creator>
  <dc:description/>
  <dc:language>en-US</dc:language>
  <cp:lastModifiedBy>Гейнце Лариса</cp:lastModifiedBy>
  <dcterms:modified xsi:type="dcterms:W3CDTF">2015-11-24T18:37:39Z</dcterms:modified>
  <cp:revision>4</cp:revision>
  <dc:subject/>
  <dc:title>Слайд 1</dc:title>
</cp:coreProperties>
</file>