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772-5758-4C48-A2A8-EBFFCAD2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826C-0148-4E12-BA37-B576C9A6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E92D-B51B-42B7-87CB-2352BBFF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ACAB-48FB-4F6C-B4BD-A06DA7CD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0031-7D1C-473D-8465-C8D44484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B783-9238-4EA7-9F9C-FB898C1E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81F6-223E-4C2F-82B3-F1C6D559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D264-5315-407E-809E-6A2B1017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6A2B-F7F9-4C95-A102-328777EC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CC5E-0F75-49C7-84AB-461154D9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7586-F87F-4D29-9920-E26CD1EF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BA72-3A92-4E47-BACF-C4A2964C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64C7-AB3D-4601-A284-B5D589D6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F2C7-CFD7-4B11-B0E9-BAB1C6CE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F2B9-EB3F-47D8-9732-651976B9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7427-FDC6-4543-867E-5D46B645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C985-B6C5-4C13-826D-BC40C8A4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8D34-631B-4CFD-B193-C759F9DF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918C-0CD4-4851-AFF5-A9186708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642-F840-450B-B793-20AEE713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958-5037-45D7-99FB-05492DDC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5211-2380-469C-BE55-E69DF204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95D2-0A75-4004-B4A3-7BD7D698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D632-C04D-4E67-9372-AA4EB0C0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30CA-1B50-49CD-8CD7-1152627ADB7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D29D-8D90-458C-A68B-D5211BF232E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Life Is a Gift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560" y="1844280"/>
            <a:ext cx="69454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oday before you say an unkind word 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nk of someone who can’t spea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835280" y="907920"/>
            <a:ext cx="56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njoy everything about your life and be thankful every moment, for life is more than just a gift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26920" y="620640"/>
            <a:ext cx="5761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fore you complain about the taste of your food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nk of someone who has nothing to 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43280" y="3500280"/>
            <a:ext cx="6049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71640" y="620640"/>
            <a:ext cx="588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fore you complain about your husband or wif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nk of someone who’s crying out to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or a compan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549360"/>
            <a:ext cx="48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fore whining about the distance you dr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nk of someone who walks the same distance with their f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00360" y="3645000"/>
            <a:ext cx="597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03280" y="549360"/>
            <a:ext cx="633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d when you are tired and complain about your job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nk of the unemployed, the disabled, and those who wish they had your jo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42920" y="404640"/>
            <a:ext cx="686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549360"/>
            <a:ext cx="58338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t before you think of pointing the finger or condemning another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 that we all make mistak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3573360"/>
            <a:ext cx="604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42920" y="692280"/>
            <a:ext cx="581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fore you complain about your children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nk of someone who desires children but they’re barr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549360"/>
            <a:ext cx="6335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oday before you complain about lif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nk of someone who went to heaven too ear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3284640"/>
            <a:ext cx="6119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16000" y="620640"/>
            <a:ext cx="684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d when depressing thoughts seem to get  you down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t a smile on your face and thank the God that you’re alive and still a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4:01:13Z</dcterms:created>
  <dc:creator> 1</dc:creator>
  <dc:description/>
  <dc:language>en-US</dc:language>
  <cp:lastModifiedBy> 1</cp:lastModifiedBy>
  <dcterms:modified xsi:type="dcterms:W3CDTF">2008-10-19T08:39:18Z</dcterms:modified>
  <cp:revision>4</cp:revision>
  <dc:subject/>
  <dc:title>Life Is a Gif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