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png" ContentType="image/png"/>
  <Override PartName="/ppt/media/image9.jpeg" ContentType="image/jpeg"/>
  <Override PartName="/ppt/media/image22.jpeg" ContentType="image/jpeg"/>
  <Override PartName="/ppt/media/image1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F6554-F0D6-4AE4-A4C9-A473637A58D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1B5AE-3357-4ED3-916B-EA5406DB0A9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2870-AFA8-4123-A0E9-B533437BE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E746-1BB9-44CF-B687-DA999DC7C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8422-1966-48D9-AB3F-41601CE08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5912-3B5B-4FE2-8590-9C9C72BBA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FF4B-2623-4872-9012-9696DDD4A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01D8-197C-4AC0-8188-0D5FE014C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B383-3AFD-4A7B-A79D-FF74E125A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389D-DED9-45B3-9562-94BCFFF02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88E9-9048-4B75-AC2B-59ED9591E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9DAF-6ACB-4AF8-94F4-90021F9E9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EE94-022D-4A69-BF18-C50C1CAE0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B2E7-AC9E-4DF9-850C-006AB9E73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9494A-EB28-4BE9-92C6-0E2D724BDC6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ttp://inforos.ru/media/4046/4049/RF_Greece.jpg"/>
          <p:cNvPicPr/>
          <p:nvPr/>
        </p:nvPicPr>
        <p:blipFill>
          <a:blip r:embed="rId1">
            <a:lum bright="70000" contrast="-70000"/>
          </a:blip>
          <a:srcRect l="0" t="6490" r="0" b="388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42800" y="2825280"/>
            <a:ext cx="1130616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Gabriola"/>
              </a:rPr>
              <a:t>Литературные герои </a:t>
            </a:r>
            <a:br>
              <a:rPr sz="8800"/>
            </a:br>
            <a:r>
              <a:rPr b="1" lang="ru-RU" sz="8800" spc="-1" strike="noStrike">
                <a:solidFill>
                  <a:srgbClr val="000000"/>
                </a:solidFill>
                <a:latin typeface="Gabriola"/>
              </a:rPr>
              <a:t>Греции с древних времен до наших дней </a:t>
            </a:r>
            <a:endParaRPr b="0" lang="en-US" sz="8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http://inforos.ru/media/4046/4049/RF_Greece.jpg"/>
          <p:cNvPicPr/>
          <p:nvPr/>
        </p:nvPicPr>
        <p:blipFill>
          <a:blip r:embed="rId2"/>
          <a:srcRect l="0" t="6490" r="0" b="388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475160" y="2077920"/>
            <a:ext cx="74944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Papyrus"/>
              </a:rPr>
              <a:t>“</a:t>
            </a:r>
            <a:r>
              <a:rPr b="1" lang="en-US" sz="6000" spc="-1" strike="noStrike">
                <a:solidFill>
                  <a:srgbClr val="000000"/>
                </a:solidFill>
                <a:latin typeface="Papyrus"/>
              </a:rPr>
              <a:t>Connect with a book”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79" name="Рисунок 3" descr=""/>
          <p:cNvPicPr/>
          <p:nvPr/>
        </p:nvPicPr>
        <p:blipFill>
          <a:blip r:embed="rId1"/>
          <a:srcRect l="0" t="0" r="0" b="5073"/>
          <a:stretch/>
        </p:blipFill>
        <p:spPr>
          <a:xfrm>
            <a:off x="326880" y="257040"/>
            <a:ext cx="4827600" cy="629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http://inforos.ru/media/4046/4049/RF_Greece.jpg"/>
          <p:cNvPicPr/>
          <p:nvPr/>
        </p:nvPicPr>
        <p:blipFill>
          <a:blip r:embed="rId2"/>
          <a:srcRect l="0" t="6490" r="0" b="388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06480" y="81000"/>
            <a:ext cx="52070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Papyrus"/>
              </a:rPr>
              <a:t>Chiron</a:t>
            </a: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84" name="Picture 2" descr="http://static.voronna.kiev.ua/wp-content/uploads/2015/05/1_june.jpg"/>
          <p:cNvPicPr/>
          <p:nvPr/>
        </p:nvPicPr>
        <p:blipFill>
          <a:blip r:embed="rId1"/>
          <a:stretch/>
        </p:blipFill>
        <p:spPr>
          <a:xfrm>
            <a:off x="6912000" y="365040"/>
            <a:ext cx="4952880" cy="48103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" descr="http://www.mystericon.org/wp-content/uploads/2015/04/Hiron.jpg"/>
          <p:cNvPicPr/>
          <p:nvPr/>
        </p:nvPicPr>
        <p:blipFill>
          <a:blip r:embed="rId2"/>
          <a:stretch/>
        </p:blipFill>
        <p:spPr>
          <a:xfrm>
            <a:off x="1332000" y="1243080"/>
            <a:ext cx="435600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http://inforos.ru/media/4046/4049/RF_Greece.jpg"/>
          <p:cNvPicPr/>
          <p:nvPr/>
        </p:nvPicPr>
        <p:blipFill>
          <a:blip r:embed="rId2"/>
          <a:srcRect l="0" t="6490" r="0" b="388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http://charrisgreek8th.weebly.com/uploads/2/3/0/8/2308648/6829640_orig.jpg"/>
          <p:cNvPicPr/>
          <p:nvPr/>
        </p:nvPicPr>
        <p:blipFill>
          <a:blip r:embed="rId1"/>
          <a:srcRect l="0" t="4072" r="0" b="2897"/>
          <a:stretch/>
        </p:blipFill>
        <p:spPr>
          <a:xfrm>
            <a:off x="873000" y="0"/>
            <a:ext cx="10509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http://inforos.ru/media/4046/4049/RF_Greece.jpg"/>
          <p:cNvPicPr/>
          <p:nvPr/>
        </p:nvPicPr>
        <p:blipFill>
          <a:blip r:embed="rId2"/>
          <a:srcRect l="0" t="6490" r="0" b="388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4040" y="93600"/>
            <a:ext cx="5798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Papyrus"/>
              </a:rPr>
              <a:t>Persephone</a:t>
            </a: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94" name="Picture 2" descr="http://mythology.sgu.ru/mythology/gallery/gren/2/pohischenie_persefoni2.jpg"/>
          <p:cNvPicPr/>
          <p:nvPr/>
        </p:nvPicPr>
        <p:blipFill>
          <a:blip r:embed="rId1"/>
          <a:srcRect l="9412" t="0" r="2907" b="0"/>
          <a:stretch/>
        </p:blipFill>
        <p:spPr>
          <a:xfrm>
            <a:off x="314280" y="1670040"/>
            <a:ext cx="7956720" cy="45259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https://readtiger.com/img/wkp/en/AMI_-_Isis-Persephone.jpg"/>
          <p:cNvPicPr/>
          <p:nvPr/>
        </p:nvPicPr>
        <p:blipFill>
          <a:blip r:embed="rId2"/>
          <a:stretch/>
        </p:blipFill>
        <p:spPr>
          <a:xfrm>
            <a:off x="8613720" y="1962000"/>
            <a:ext cx="326232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http://inforos.ru/media/4046/4049/RF_Greece.jpg"/>
          <p:cNvPicPr/>
          <p:nvPr/>
        </p:nvPicPr>
        <p:blipFill>
          <a:blip r:embed="rId2"/>
          <a:srcRect l="0" t="6490" r="0" b="388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Papyrus"/>
              </a:rPr>
              <a:t>Medusa Gorgona</a:t>
            </a:r>
            <a:endParaRPr b="0" lang="en-US" sz="66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00" name="Picture 4" descr="http://www.playing-field.ru/img/2015/051813/2549816"/>
          <p:cNvPicPr/>
          <p:nvPr/>
        </p:nvPicPr>
        <p:blipFill>
          <a:blip r:embed="rId1"/>
          <a:stretch/>
        </p:blipFill>
        <p:spPr>
          <a:xfrm>
            <a:off x="351000" y="2284560"/>
            <a:ext cx="6016320" cy="40273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http://theartofhistory.com/store/images/attributes/10006-5.jpg"/>
          <p:cNvPicPr/>
          <p:nvPr/>
        </p:nvPicPr>
        <p:blipFill>
          <a:blip r:embed="rId2"/>
          <a:stretch/>
        </p:blipFill>
        <p:spPr>
          <a:xfrm>
            <a:off x="7246800" y="1960560"/>
            <a:ext cx="410688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28600" y="210600"/>
            <a:ext cx="8415360" cy="132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Papyrus"/>
              </a:rPr>
              <a:t>Percy Jackson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1" name="Picture 2" descr="https://www.wikireading.ru/img/370747_57__256.png"/>
          <p:cNvPicPr/>
          <p:nvPr/>
        </p:nvPicPr>
        <p:blipFill>
          <a:blip r:embed="rId1"/>
          <a:stretch/>
        </p:blipFill>
        <p:spPr>
          <a:xfrm>
            <a:off x="8951760" y="1144440"/>
            <a:ext cx="2853000" cy="5502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http://image.tmdb.org/t/p/original/5NhyXkodMzDRW8uqtPqlxJsoBhf.jpg"/>
          <p:cNvPicPr/>
          <p:nvPr/>
        </p:nvPicPr>
        <p:blipFill>
          <a:blip r:embed="rId2"/>
          <a:srcRect l="6106" t="7173" r="0" b="0"/>
          <a:stretch/>
        </p:blipFill>
        <p:spPr>
          <a:xfrm>
            <a:off x="777960" y="210960"/>
            <a:ext cx="4340160" cy="643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http://inforos.ru/media/4046/4049/RF_Greece.jpg"/>
          <p:cNvPicPr/>
          <p:nvPr/>
        </p:nvPicPr>
        <p:blipFill>
          <a:blip r:embed="rId2"/>
          <a:srcRect l="0" t="6490" r="0" b="388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28120" y="365040"/>
            <a:ext cx="4667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Papyrus"/>
              </a:rPr>
              <a:t>Athena</a:t>
            </a:r>
            <a:endParaRPr b="0" lang="en-US" sz="88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06" name="Picture 4" descr="http://smuzrit.ru/uploads/images/a/f/i/afina.jpg"/>
          <p:cNvPicPr/>
          <p:nvPr/>
        </p:nvPicPr>
        <p:blipFill>
          <a:blip r:embed="rId1"/>
          <a:stretch/>
        </p:blipFill>
        <p:spPr>
          <a:xfrm>
            <a:off x="8156520" y="365040"/>
            <a:ext cx="3595680" cy="61182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http://travelgroup.ua/dostoprimechatelnosti/spor-Afinyi-s-Poseydonom.jpg"/>
          <p:cNvPicPr/>
          <p:nvPr/>
        </p:nvPicPr>
        <p:blipFill>
          <a:blip r:embed="rId2"/>
          <a:srcRect l="40485" t="0" r="26880" b="0"/>
          <a:stretch/>
        </p:blipFill>
        <p:spPr>
          <a:xfrm>
            <a:off x="3584520" y="1623960"/>
            <a:ext cx="3220920" cy="48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360" y="2914560"/>
            <a:ext cx="119840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Papyrus"/>
              </a:rPr>
              <a:t>We are the world, we are the children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Papyrus"/>
              </a:rPr>
              <a:t>We are the ones who make a brighter da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Papyrus"/>
              </a:rPr>
              <a:t>So let's start giving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Papyrus"/>
              </a:rPr>
              <a:t>There's a choice we're making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Papyrus"/>
              </a:rPr>
              <a:t>We're saving our own lives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Papyrus"/>
              </a:rPr>
              <a:t>It's true we'll make a better da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Papyrus"/>
              </a:rPr>
              <a:t>Just you and me.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09" name="We_are_the_world_(zaycev.net)" descr=""/>
          <p:cNvPicPr/>
          <p:nvPr/>
        </p:nvPicPr>
        <p:blipFill>
          <a:blip r:embed="rId1"/>
          <a:stretch/>
        </p:blipFill>
        <p:spPr>
          <a:xfrm>
            <a:off x="222120" y="595008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308897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" descr="http://inforos.ru/media/4046/4049/RF_Greece.jpg"/>
          <p:cNvPicPr/>
          <p:nvPr/>
        </p:nvPicPr>
        <p:blipFill>
          <a:blip r:embed="rId2"/>
          <a:srcRect l="0" t="6490" r="0" b="388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http://inforos.ru/media/4046/4049/RF_Greece.jpg"/>
          <p:cNvPicPr/>
          <p:nvPr/>
        </p:nvPicPr>
        <p:blipFill>
          <a:blip r:embed="rId1">
            <a:lum bright="70000" contrast="-70000"/>
          </a:blip>
          <a:srcRect l="0" t="6490" r="0" b="388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22208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Papyrus"/>
              </a:rPr>
              <a:t>THE END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http://inforos.ru/media/4046/4049/RF_Greece.jpg"/>
          <p:cNvPicPr/>
          <p:nvPr/>
        </p:nvPicPr>
        <p:blipFill>
          <a:blip r:embed="rId2"/>
          <a:srcRect l="0" t="6490" r="0" b="388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5440" y="20808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Papyrus"/>
              </a:rPr>
              <a:t>Annabeth Chase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apyrus"/>
              </a:rPr>
              <a:t>The daughter  of Athen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http://thefinalday.mybb.ru/img/avatars/000f/6c/44/9-1313593632.jpg"/>
          <p:cNvPicPr/>
          <p:nvPr/>
        </p:nvPicPr>
        <p:blipFill>
          <a:blip r:embed="rId1"/>
          <a:stretch/>
        </p:blipFill>
        <p:spPr>
          <a:xfrm>
            <a:off x="6373800" y="208080"/>
            <a:ext cx="5146560" cy="65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05040" y="12528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Papyrus"/>
              </a:rPr>
              <a:t>Grover Underwood / Satyr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0" name="Picture 2" descr="http://www.cvaonline.org/dictionary/Dict/image/satyrs4.jpg"/>
          <p:cNvPicPr/>
          <p:nvPr/>
        </p:nvPicPr>
        <p:blipFill>
          <a:blip r:embed="rId1"/>
          <a:stretch/>
        </p:blipFill>
        <p:spPr>
          <a:xfrm>
            <a:off x="3316320" y="1450800"/>
            <a:ext cx="5692680" cy="52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http://inforos.ru/media/4046/4049/RF_Greece.jpg"/>
          <p:cNvPicPr/>
          <p:nvPr/>
        </p:nvPicPr>
        <p:blipFill>
          <a:blip r:embed="rId2"/>
          <a:srcRect l="0" t="6490" r="0" b="388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5" name="Picture 4" descr="http://musicaplays.ru/uploads/images/v_drevnej_gretsii_sirtaki.jpg"/>
          <p:cNvPicPr/>
          <p:nvPr/>
        </p:nvPicPr>
        <p:blipFill>
          <a:blip r:embed="rId1"/>
          <a:stretch/>
        </p:blipFill>
        <p:spPr>
          <a:xfrm>
            <a:off x="1116000" y="152280"/>
            <a:ext cx="4619520" cy="30751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http://lanatigrana.ru/wp-content/images_1/sirtaki_samij_grecheskij_tanets-4.jpg"/>
          <p:cNvPicPr/>
          <p:nvPr/>
        </p:nvPicPr>
        <p:blipFill>
          <a:blip r:embed="rId2"/>
          <a:stretch/>
        </p:blipFill>
        <p:spPr>
          <a:xfrm>
            <a:off x="369720" y="3375000"/>
            <a:ext cx="5061240" cy="33735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http://pokazima.ru/wp-content/uploads/2015/08/%D1%82%D0%B0%D0%BD%D0%B5%D1%86-%D0%A1%D0%B8%D1%80%D1%82%D0%B0%D0%BA%D0%B8.jpg"/>
          <p:cNvPicPr/>
          <p:nvPr/>
        </p:nvPicPr>
        <p:blipFill>
          <a:blip r:embed="rId3"/>
          <a:stretch/>
        </p:blipFill>
        <p:spPr>
          <a:xfrm>
            <a:off x="6230880" y="152280"/>
            <a:ext cx="4627800" cy="30765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http://xn--12-bmce4b.xn--p1ai/uploads/photos/khrustalnaja-kapel-2012-otbor-na-gorod/CEA_5652.jpg"/>
          <p:cNvPicPr/>
          <p:nvPr/>
        </p:nvPicPr>
        <p:blipFill>
          <a:blip r:embed="rId4"/>
          <a:stretch/>
        </p:blipFill>
        <p:spPr>
          <a:xfrm>
            <a:off x="6512040" y="3375000"/>
            <a:ext cx="5236920" cy="3373560"/>
          </a:xfrm>
          <a:prstGeom prst="rect">
            <a:avLst/>
          </a:prstGeom>
          <a:ln w="0">
            <a:noFill/>
          </a:ln>
        </p:spPr>
      </p:pic>
      <p:pic>
        <p:nvPicPr>
          <p:cNvPr id="69" name="Танец Сиртаки 6а Античные зарисовки" descr=""/>
          <p:cNvPicPr/>
          <p:nvPr/>
        </p:nvPicPr>
        <p:blipFill>
          <a:blip r:embed="rId5"/>
          <a:stretch/>
        </p:blipFill>
        <p:spPr>
          <a:xfrm>
            <a:off x="5735520" y="58942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2322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http://inforos.ru/media/4046/4049/RF_Greece.jpg"/>
          <p:cNvPicPr/>
          <p:nvPr/>
        </p:nvPicPr>
        <p:blipFill>
          <a:blip r:embed="rId2"/>
          <a:srcRect l="0" t="6490" r="0" b="388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Papyrus"/>
              </a:rPr>
              <a:t>Poseidon</a:t>
            </a:r>
            <a:r>
              <a:rPr b="1" lang="ru-RU" sz="5400" spc="-1" strike="noStrike">
                <a:solidFill>
                  <a:srgbClr val="000000"/>
                </a:solidFill>
                <a:latin typeface="Papyrus"/>
              </a:rPr>
              <a:t> 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74" name="Picture 2" descr="http://img.pix.uz/u6987f294220.jpg"/>
          <p:cNvPicPr/>
          <p:nvPr/>
        </p:nvPicPr>
        <p:blipFill>
          <a:blip r:embed="rId1"/>
          <a:stretch/>
        </p:blipFill>
        <p:spPr>
          <a:xfrm>
            <a:off x="5883120" y="0"/>
            <a:ext cx="4832640" cy="68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06T18:11:50Z</dcterms:created>
  <dc:creator>LILYA</dc:creator>
  <dc:description/>
  <dc:language>en-US</dc:language>
  <cp:lastModifiedBy>RNN</cp:lastModifiedBy>
  <dcterms:modified xsi:type="dcterms:W3CDTF">2017-09-11T07:02:41Z</dcterms:modified>
  <cp:revision>19</cp:revision>
  <dc:subject/>
  <dc:title>Литературные герои  Греции с древних времен до наших дней</dc:title>
</cp:coreProperties>
</file>